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55F-440C-4031-A7E0-97768E4A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714-0AF7-47FD-8AAC-0EC8D1C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7CA-53CD-47EF-9DB0-16890F98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41D-112F-4695-8290-931A35E2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664-8EDC-4B78-8443-B6E9059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4DA1-EC98-4AFB-B4C4-C50E1F8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9124-2211-4104-842D-BF8A4A2B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376-53F1-4AE5-A5A2-9818910F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B0B0-2977-4196-AB34-BF53992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D1F8-80B8-46CC-933A-3C3E769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593-8FFB-47C8-AC07-DA6CA3F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94D-1E7E-4F4D-AEDE-70DDAB5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E55-B60E-4CF9-818B-B578105B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0EE5-1BA5-4BBE-BAC3-3C57A21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F4C6-9FBE-49C4-AF3A-726A82B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C61-4275-4821-839B-86A3F4A0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20A0-BE77-4452-B711-53CFB9A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6CC-5CB2-4BDB-8FD7-71AEC99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DAA-CDB5-40CF-A420-95AD7B6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F0B-EA2A-4200-9901-D63A785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B0C-B28D-4D07-BF72-F79B45C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5AF-E427-4C21-A6D5-1B25A87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A3B-E945-4291-A03F-66AB148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AE3-E382-43E0-BCD4-98FDA7D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DF4-88D9-4942-BD12-3E499766DA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E88-B8FF-4232-93CB-CF99F33759B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56000" y="1125360"/>
            <a:ext cx="476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furi neorientate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4032360" cy="3300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08360" y="54936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i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1979640" cy="181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3429000"/>
            <a:ext cx="48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Retele de transport in com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Alei in par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Linii de produc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 rot="1291800">
            <a:off x="5580000" y="3500280"/>
            <a:ext cx="2675160" cy="288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4210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Bernard MT Condensed"/>
              </a:rPr>
              <a:t>Ca in lumea reala exis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157720"/>
            <a:ext cx="1511280" cy="1368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4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5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85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85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85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95640" y="692280"/>
            <a:ext cx="309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reau sa sti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10440" y="0"/>
            <a:ext cx="2833560" cy="185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2781360"/>
            <a:ext cx="4249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e reprezinta un gra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e modeleaza lumea reala cu ajutorul grafur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429000"/>
            <a:ext cx="3348000" cy="324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187280" y="4597560"/>
            <a:ext cx="3394080" cy="2260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2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2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2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40000" y="836640"/>
            <a:ext cx="26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m invata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84720" y="333360"/>
            <a:ext cx="2708280" cy="159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258920" y="4365720"/>
            <a:ext cx="3770280" cy="219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2492280"/>
            <a:ext cx="838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reprezint un graf prin matricea de adiac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reprezint un graf prin liste de adiac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Cum sa identific drumul minim si maxim intr-un gr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4221000"/>
            <a:ext cx="2880000" cy="24037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4000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25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25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0:36Z</dcterms:created>
  <dc:creator>profesor</dc:creator>
  <dc:description/>
  <dc:language>en-US</dc:language>
  <cp:lastModifiedBy>profesor</cp:lastModifiedBy>
  <dcterms:modified xsi:type="dcterms:W3CDTF">2011-03-23T16:08:11Z</dcterms:modified>
  <cp:revision>6</cp:revision>
  <dc:subject/>
  <dc:title>Diapozitivul 1</dc:title>
</cp:coreProperties>
</file>